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4C4-F952-4C70-B75C-A674CEB9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A5D-5FD4-4AF9-9171-9FB4FEA6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6BC-F0B1-4C13-B795-2C009178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A91-85D9-4068-B750-75037B10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1E64-4779-4AB6-B8A5-834E2EA9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8C5E-A47A-4BEB-B50E-FC756BC6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8483-2118-45FC-88A6-A5B255D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01E2-4BC5-474E-94D0-7D083B0D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2495-0C75-4432-A1F7-A6425E1A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274A-33C3-40DE-92BD-FFC09676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47ED-1921-49D8-9817-96C5624D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793-4016-4F1F-BAED-9B5C86BC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B2C3-5117-4AE1-A232-21DC82BE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5175-5A6A-4FB9-A4F7-7BD58381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8A1F-9A6A-42B7-94A3-743D8E5E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C00D-8660-4341-AB0C-DCE77A0C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34BD-D38F-400D-8163-932A9269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128-822D-4005-BC1E-475F51D2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FF8-36E8-4C59-AC82-1961BF9D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593-10B8-49FC-8196-9E3C5A1C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F24-E67A-4640-86DB-E836ABBD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CB2-D48F-4D9B-AC55-E134010F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70B-8501-4D8A-B90B-14C93AE9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5AE-1BBC-4098-97D9-D6E34CEE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09A3-49FC-430E-888A-23575717D4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850E-05CC-4E01-B3D5-D2B28813C3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odeproject.com/cs/database/" TargetMode="External"/><Relationship Id="rId2" Type="http://schemas.openxmlformats.org/officeDocument/2006/relationships/hyperlink" Target="http://blog.stevex.net/index.php/string-formatting-in-csharp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OS Syste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lorin Zid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Program Demonst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Design Process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Problems Encounte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Future Addi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1. PROGRAM DEMONSTR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 Project developed using C# in Visual Studio 200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. Needed to develop a Point Of Sale System for our company. Functional requirements provid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. Let’s take a look at the program demo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DESIGN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  Review reference implementation and the UML dia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.  Review requirements and identify potential cl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.  Identify and apply class relations (refactor if needed)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JECT 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IOManag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read from and write to a text file or to a binary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Regist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controller class: provides the user interface with needed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User Interface(GUI) class: provides a graphic interface used by the user to communicate with the POS Syste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ASS RELATIONSHIP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ginal  vs Fi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210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3581280"/>
            <a:ext cx="4191120" cy="1312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3. PROBLEMS ENCOUNTERED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.   Most of the problems came when develop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user interfac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original design did not have all the information in the sam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lution: use Control.Visible proper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needed a read-only combo-box; (i.e. for credit card typ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lution: custom read-onl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.  Little trouble to find the file created after writing to a file (from IOManag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. Future Addi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. Exception Hand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ome implemented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. Add more functionality to the GU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rching a product within a catalog, improve formatting, add sales to a list of s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. More testing is need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. More comments are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572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codeproject.com/cs/database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String formatt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blog.stevex.net/index.php/string-formatting-in-csharp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www.google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Quotes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Class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8:49:52Z</dcterms:created>
  <dc:creator>fzidaru</dc:creator>
  <dc:description/>
  <dc:language>en-US</dc:language>
  <cp:lastModifiedBy>fzidaru</cp:lastModifiedBy>
  <dcterms:modified xsi:type="dcterms:W3CDTF">2006-11-30T22:03:12Z</dcterms:modified>
  <cp:revision>34</cp:revision>
  <dc:subject/>
  <dc:title>POS System</dc:title>
</cp:coreProperties>
</file>