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12.jpeg" ContentType="image/jpeg"/>
  <Override PartName="/ppt/media/image9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64C42-6AAE-450E-A021-207756ED0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64E0D-779B-4687-905E-E9FCD2471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4CFCA-28F6-4CE7-9E9C-11BF8BA84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A7C97-AECD-431E-A3AD-87D6C20DE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73473-3BE1-48BD-8580-E8796FEF3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85591-4F44-4D5C-897B-5789BA2E0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A9284-A6FA-401A-BA4A-E838E3169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0A11B-9AC8-4791-9626-BECC1ECCC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122C8-C656-437D-84AA-AC11ED470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0B049-A84B-474F-B08B-A18E741DC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BD92A-2029-4564-AA0D-6E49FA06D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673D1-6467-44AF-BCAA-DF0705603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92D6B-E138-4131-BA33-1FDACF41C8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5486400" y="762120"/>
            <a:ext cx="2438280" cy="36576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715000" y="4640400"/>
            <a:ext cx="1828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Smithsonian American Art Museum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00200" y="5792760"/>
            <a:ext cx="6629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The inventor of the  Cherokee Alphab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2362320"/>
            <a:ext cx="4572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Life and Times of Sequoya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209680" y="685800"/>
            <a:ext cx="3810240" cy="50817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09680" y="5791320"/>
            <a:ext cx="3810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Image courtesy of National Park Servi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819520" y="533520"/>
            <a:ext cx="3524040" cy="47005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2743200" y="5334120"/>
            <a:ext cx="342900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Image courtesy of National Park Servi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rcRect l="2815" t="0" r="0" b="23600"/>
          <a:stretch/>
        </p:blipFill>
        <p:spPr>
          <a:xfrm>
            <a:off x="2057400" y="1219320"/>
            <a:ext cx="5257800" cy="36018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4341960" y="3244680"/>
            <a:ext cx="460080" cy="36864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133720" y="4952880"/>
            <a:ext cx="2971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Image courtesy of Georgia Archiv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981080" y="457200"/>
            <a:ext cx="5257800" cy="41972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209680" y="4724280"/>
            <a:ext cx="3886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http://www.discoveryeducation.com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743200" y="380880"/>
            <a:ext cx="3632040" cy="38102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971800" y="4343400"/>
            <a:ext cx="3048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National Anthropological Archives, Smithsonian Institu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048120" y="990720"/>
            <a:ext cx="3467160" cy="53337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505320" y="38088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erokee Phoenix, 1828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124080" y="6400800"/>
            <a:ext cx="2210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Courtesy of Library of Congre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743200" y="685800"/>
            <a:ext cx="3157560" cy="51814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2895480" y="5867280"/>
            <a:ext cx="3276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National Anthropological Archives, Smithsonian Institu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1002" t="0" r="0" b="20001"/>
          <a:stretch/>
        </p:blipFill>
        <p:spPr>
          <a:xfrm>
            <a:off x="838080" y="254160"/>
            <a:ext cx="7543800" cy="50799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838080" y="5867280"/>
            <a:ext cx="647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ew Echota, 1975. The print shop where The Cherokee Phoenix was publish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43000" y="5486400"/>
            <a:ext cx="6477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Image courtesy of the Georgia Archiv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rcRect l="20000" t="469" r="20000" b="0"/>
          <a:stretch/>
        </p:blipFill>
        <p:spPr>
          <a:xfrm>
            <a:off x="3124080" y="1752480"/>
            <a:ext cx="2743200" cy="3645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3124080" y="5562720"/>
            <a:ext cx="3353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National Anthropological Archives, Smithsonian Institution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3505320" y="1752480"/>
            <a:ext cx="2381040" cy="2381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3429000" y="4191120"/>
            <a:ext cx="3505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Encyclopedia Britannica, 20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914400" y="1066680"/>
            <a:ext cx="7238880" cy="46101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914400" y="579132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age Pics4learning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867280"/>
            <a:ext cx="3962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Image courtesy of pics4learning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22T21:14:32Z</dcterms:created>
  <dc:creator>M&amp;M</dc:creator>
  <dc:description/>
  <dc:language>en-US</dc:language>
  <cp:lastModifiedBy>M&amp;M</cp:lastModifiedBy>
  <dcterms:modified xsi:type="dcterms:W3CDTF">2011-06-22T22:43:22Z</dcterms:modified>
  <cp:revision>3</cp:revision>
  <dc:subject/>
  <dc:title>Slide 1</dc:title>
</cp:coreProperties>
</file>