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79B-B2B9-4817-9DCB-1893D10C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177-EFE7-409B-9A71-93A3DDC6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651-B66C-483D-837E-330D3ABE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EB0-37E5-4D21-B77B-EE214598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412-6F21-4FE3-BF3F-CC6A5D80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297-9AA5-4AF4-9E5D-46735EFA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BE8B-3C0F-48B6-9B97-DCEB76AE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EF5-0DE6-412F-B9B2-BB1CC7EA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79E-911D-44D6-91D1-81599FD8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DDA-9EEB-4C43-B963-A8F7505C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BF1-2E8A-40FA-96EC-601714C7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435-402D-4F62-B683-E8C8AD00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10BC-88F8-42C4-AADF-16417E66C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nemonic Strategy For Analyzing Photography For Meaning and Arg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7466_p4_three_layers_krc.jpg"/>
          <p:cNvPicPr/>
          <p:nvPr/>
        </p:nvPicPr>
        <p:blipFill>
          <a:blip r:embed="rId1"/>
          <a:stretch/>
        </p:blipFill>
        <p:spPr>
          <a:xfrm>
            <a:off x="304920" y="762120"/>
            <a:ext cx="525780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" name="TextBox 8"/>
          <p:cNvSpPr/>
          <p:nvPr/>
        </p:nvSpPr>
        <p:spPr>
          <a:xfrm>
            <a:off x="5791320" y="762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s for overvie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down a few notes on what the visual appears to be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304920" y="63244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ian’s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7466_p4_three_layers_krc.jpg"/>
          <p:cNvPicPr/>
          <p:nvPr/>
        </p:nvPicPr>
        <p:blipFill>
          <a:blip r:embed="rId1"/>
          <a:stretch/>
        </p:blipFill>
        <p:spPr>
          <a:xfrm>
            <a:off x="304920" y="762120"/>
            <a:ext cx="525780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7" name="TextBox 8"/>
          <p:cNvSpPr/>
          <p:nvPr/>
        </p:nvSpPr>
        <p:spPr>
          <a:xfrm>
            <a:off x="5791320" y="762120"/>
            <a:ext cx="2971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s for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in on the parts of the visual. Write down any elements or details that seem impor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04920" y="63244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ian’s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7466_p4_three_layers_krc.jpg"/>
          <p:cNvPicPr/>
          <p:nvPr/>
        </p:nvPicPr>
        <p:blipFill>
          <a:blip r:embed="rId1"/>
          <a:stretch/>
        </p:blipFill>
        <p:spPr>
          <a:xfrm>
            <a:off x="304920" y="762120"/>
            <a:ext cx="525780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0" name="TextBox 8"/>
          <p:cNvSpPr/>
          <p:nvPr/>
        </p:nvSpPr>
        <p:spPr>
          <a:xfrm>
            <a:off x="5791320" y="76212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s fo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the words of the title of the vis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04920" y="633564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ian’s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7466_p4_three_layers_krc.jpg"/>
          <p:cNvPicPr/>
          <p:nvPr/>
        </p:nvPicPr>
        <p:blipFill>
          <a:blip r:embed="rId1"/>
          <a:stretch/>
        </p:blipFill>
        <p:spPr>
          <a:xfrm>
            <a:off x="304920" y="762120"/>
            <a:ext cx="525780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3" name="TextBox 8"/>
          <p:cNvSpPr/>
          <p:nvPr/>
        </p:nvSpPr>
        <p:spPr>
          <a:xfrm>
            <a:off x="5791320" y="762120"/>
            <a:ext cx="29718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s for inter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title as the theory and the parts of the visual as clues to detect and specify the interrelationships in the graph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63244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ian’s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7466_p4_three_layers_krc.jpg"/>
          <p:cNvPicPr/>
          <p:nvPr/>
        </p:nvPicPr>
        <p:blipFill>
          <a:blip r:embed="rId1"/>
          <a:stretch/>
        </p:blipFill>
        <p:spPr>
          <a:xfrm>
            <a:off x="304920" y="762120"/>
            <a:ext cx="525780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Box 8"/>
          <p:cNvSpPr/>
          <p:nvPr/>
        </p:nvSpPr>
        <p:spPr>
          <a:xfrm>
            <a:off x="5791320" y="762120"/>
            <a:ext cx="2971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s for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conclusion about the visual as a whole. What does the visual me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63244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ian’s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7466_p4_three_layers_krc.jpg"/>
          <p:cNvPicPr/>
          <p:nvPr/>
        </p:nvPicPr>
        <p:blipFill>
          <a:blip r:embed="rId1"/>
          <a:stretch/>
        </p:blipFill>
        <p:spPr>
          <a:xfrm>
            <a:off x="304920" y="762120"/>
            <a:ext cx="525780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9" name="TextBox 8"/>
          <p:cNvSpPr/>
          <p:nvPr/>
        </p:nvSpPr>
        <p:spPr>
          <a:xfrm>
            <a:off x="5791320" y="7621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the message of the visual in one or two sent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04920" y="63244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ian’s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8"/>
          <p:cNvSpPr/>
          <p:nvPr/>
        </p:nvSpPr>
        <p:spPr>
          <a:xfrm>
            <a:off x="228600" y="152280"/>
            <a:ext cx="868680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C 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s for overview - write down a few notes on what the visual appears to be abo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s for parts-zero in on the parts of the visual. Write down any elements or details that seem impor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s for title-highlight the words of the title of the visual (if one is available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s for interrelationships-use the title as the theory and the parts of the visual as clues to detect and specify the interrelationships in the graph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s for conclusion--draw a conclusion about the visual as a whole. What does the visual mean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28600" y="5715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nemonic device is helpful with key concepts to think about when approaching any kind of visu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5:11:04Z</dcterms:created>
  <dc:creator>Paulding School District</dc:creator>
  <dc:description/>
  <dc:language>en-US</dc:language>
  <cp:lastModifiedBy>Office 2004 Test Drive User</cp:lastModifiedBy>
  <dcterms:modified xsi:type="dcterms:W3CDTF">2010-07-12T15:17:02Z</dcterms:modified>
  <cp:revision>5</cp:revision>
  <dc:subject/>
  <dc:title>Slide 1</dc:title>
</cp:coreProperties>
</file>